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52360" y="682200"/>
            <a:ext cx="4553280" cy="34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F22F3E-8B66-43B6-A208-26B1AB3712D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641C78-B556-4288-8FCF-AC1C89278CC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830CA4-73A3-46DE-890E-38DE9120BB2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CB3B61-D38B-4F92-A050-E2DCCD9DDDA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628C06-34EF-4D73-B450-F1FADC82726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AFE905-CB4D-4F81-BFF1-F44E924F63E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049D60-DC6F-4F91-BC97-876FA193296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F82174-2B01-4BDF-A9D3-8DCFC69E9D6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15467D-B5F8-404D-913C-4D59FB31133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15A71E-BFC4-4CE9-8176-52580BF566F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7770E2-E00D-4792-BED6-C971D2795C3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7732B6-A7F2-4622-9EE2-0B0B67327AE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8620EF-DAA3-4A19-9B59-9D8B633CE91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972B11-1A20-458F-BDD7-747E34D4045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B46B08-1378-4639-B119-825454376CA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B7455E-3A06-40B2-8A26-151F6C48138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1B6EE8-7481-424B-8B64-BC17B22E7A3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AC50F3-53CD-4B25-AB50-3125751C356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9DAD3E-F335-4922-B791-3BA0E30CEE6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76C24B-AD19-476F-9EC0-1F7B498BC57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4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The Tragedy of Julius Caesar </a:t>
            </a:r>
            <a:br>
              <a:rPr sz="32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1828800" y="2590920"/>
            <a:ext cx="601992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Discussion Star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9051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Z:\Production\Melissa\HTML Project\Incoming\NovelNotes_Images_for_Lason\ceasar\2723654-1580x2400.jpg"/>
          <p:cNvPicPr/>
          <p:nvPr/>
        </p:nvPicPr>
        <p:blipFill>
          <a:blip r:embed="rId2"/>
          <a:stretch/>
        </p:blipFill>
        <p:spPr>
          <a:xfrm>
            <a:off x="2584440" y="530280"/>
            <a:ext cx="3975120" cy="2620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85800" y="2514600"/>
            <a:ext cx="8001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ome senators begin to conspire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Brutus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Caesar’s friend who believes that he must act against Caesar for the good of Rome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Casca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who hates the ordinary citizens of Rome yet is jealous because they love Caesar and not him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Cassius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a greedy and jealous man who wants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o take drastic measures to keep Caesar from winning any more power—and to take away any power that Caesar previously ha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25146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3" descr="Z:\Production\Melissa\HTML Project\Incoming\NovelNotes_Images_for_Lason\ceasar\4486351-2700x1801.jpg"/>
          <p:cNvPicPr/>
          <p:nvPr/>
        </p:nvPicPr>
        <p:blipFill>
          <a:blip r:embed="rId2"/>
          <a:stretch/>
        </p:blipFill>
        <p:spPr>
          <a:xfrm>
            <a:off x="684360" y="1297080"/>
            <a:ext cx="1928520" cy="2892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4343400" y="129528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hakespeare uses Roman customs and superstition to create spooky conditions to mirror the dangerous plot being plan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4" descr="Z:\Production\Melissa\HTML Project\Incoming\NovelNotes_Images_for_Lason\ceasar\shutterstock_2811350.jpg"/>
          <p:cNvPicPr/>
          <p:nvPr/>
        </p:nvPicPr>
        <p:blipFill>
          <a:blip r:embed="rId3"/>
          <a:stretch/>
        </p:blipFill>
        <p:spPr>
          <a:xfrm>
            <a:off x="1442880" y="3583080"/>
            <a:ext cx="2989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6" descr="Z:\Production\Melissa\HTML Project\Incoming\NovelNotes_Images_for_Lason\ceasar\shutterstock_3153329.jpg"/>
          <p:cNvPicPr/>
          <p:nvPr/>
        </p:nvPicPr>
        <p:blipFill>
          <a:blip r:embed="rId2"/>
          <a:stretch/>
        </p:blipFill>
        <p:spPr>
          <a:xfrm>
            <a:off x="6095880" y="985680"/>
            <a:ext cx="2668680" cy="2668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3"/>
          <a:stretch/>
        </p:blipFill>
        <p:spPr>
          <a:xfrm>
            <a:off x="2590920" y="24382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2"/>
          <p:cNvSpPr/>
          <p:nvPr/>
        </p:nvSpPr>
        <p:spPr>
          <a:xfrm>
            <a:off x="609480" y="14479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s believed that omens could reveal the fu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533520" y="358128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se omens could take the form of unusual weather, flights of birds, or other natural phenome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7" descr="Z:\Production\Melissa\HTML Project\Incoming\NovelNotes_Images_for_Lason\ceasar\shutterstock_2752617.jpg"/>
          <p:cNvPicPr/>
          <p:nvPr/>
        </p:nvPicPr>
        <p:blipFill>
          <a:blip r:embed="rId4"/>
          <a:stretch/>
        </p:blipFill>
        <p:spPr>
          <a:xfrm>
            <a:off x="3957480" y="2970360"/>
            <a:ext cx="3711600" cy="27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0" descr="Z:\Production\Melissa\HTML Project\Incoming\NovelNotes_Images_for_Lason\ceasar\shutterstock_908940.jpg"/>
          <p:cNvPicPr/>
          <p:nvPr/>
        </p:nvPicPr>
        <p:blipFill>
          <a:blip r:embed="rId2"/>
          <a:stretch/>
        </p:blipFill>
        <p:spPr>
          <a:xfrm>
            <a:off x="5940360" y="3427560"/>
            <a:ext cx="2587680" cy="19414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imals were seen as indicators of the futu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57200" y="190512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s often sacrificed animals to the gods, and had their entrails (guts) examined by an official called a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haruspex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. Any abnormalities or imperfections indicated the anger of a god or a particularly bad event about to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Z:\Production\Melissa\HTML Project\Incoming\NovelNotes_Images_for_Lason\ceasar\shutterstock_2594029.jpg"/>
          <p:cNvPicPr/>
          <p:nvPr/>
        </p:nvPicPr>
        <p:blipFill>
          <a:blip r:embed="rId4"/>
          <a:stretch/>
        </p:blipFill>
        <p:spPr>
          <a:xfrm>
            <a:off x="5108400" y="1900080"/>
            <a:ext cx="1984680" cy="29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4" descr="Z:\Production\Melissa\HTML Project\Incoming\NovelNotes_Images_for_Lason\ceasar\shutterstock_2353402.jpg"/>
          <p:cNvPicPr/>
          <p:nvPr/>
        </p:nvPicPr>
        <p:blipFill>
          <a:blip r:embed="rId2"/>
          <a:stretch/>
        </p:blipFill>
        <p:spPr>
          <a:xfrm>
            <a:off x="5483160" y="1982880"/>
            <a:ext cx="300672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09480" y="1447920"/>
            <a:ext cx="3962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usual astronomical and meteorological occurrences were also seen as signs of future ev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533520" y="3733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olar eclipses were believed to foreshadow doom, as was light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13" descr=""/>
          <p:cNvPicPr/>
          <p:nvPr/>
        </p:nvPicPr>
        <p:blipFill>
          <a:blip r:embed="rId3"/>
          <a:stretch/>
        </p:blipFill>
        <p:spPr>
          <a:xfrm>
            <a:off x="3200400" y="3124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Z:\Production\Melissa\HTML Project\Incoming\NovelNotes_Images_for_Lason\ceasar\shutterstock_3188216.jpg"/>
          <p:cNvPicPr/>
          <p:nvPr/>
        </p:nvPicPr>
        <p:blipFill>
          <a:blip r:embed="rId4"/>
          <a:stretch/>
        </p:blipFill>
        <p:spPr>
          <a:xfrm>
            <a:off x="4570560" y="3583080"/>
            <a:ext cx="3089160" cy="20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0948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ne of the reasons the Senate was concerned by Caesar’s accumulation of power was Rome’s long history as a republ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11" descr="Z:\Production\Melissa\HTML Project\Incoming\NovelNotes_Images_for_Lason\ceasar\5076228-1602x2400.jpg"/>
          <p:cNvPicPr/>
          <p:nvPr/>
        </p:nvPicPr>
        <p:blipFill>
          <a:blip r:embed="rId2"/>
          <a:stretch/>
        </p:blipFill>
        <p:spPr>
          <a:xfrm>
            <a:off x="2585880" y="2814480"/>
            <a:ext cx="41324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09480" y="144792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ound 509 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.C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, the Romans ended a monarchy by rebelling against the last king of Rome, Tarquini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13" descr="Z:\Production\Melissa\HTML Project\Incoming\NovelNotes_Images_for_Lason\ceasar\shutterstock_3081546.jpg"/>
          <p:cNvPicPr/>
          <p:nvPr/>
        </p:nvPicPr>
        <p:blipFill>
          <a:blip r:embed="rId2"/>
          <a:stretch/>
        </p:blipFill>
        <p:spPr>
          <a:xfrm>
            <a:off x="5027760" y="1214280"/>
            <a:ext cx="326376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267080" y="350532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y were very proud of their non-king ruled government, and were determined to preserve it—but when Caesar arrived, they changed their mind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267080" y="1295280"/>
            <a:ext cx="449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fter this revolution, the Romans established their famous republic, in which all citizens were represented in the Sen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8534520" y="29718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Z:\Production\Melissa\HTML Project\Incoming\NovelNotes_Images_for_Lason\ceasar\4521980-2484x2012.jpg"/>
          <p:cNvPicPr/>
          <p:nvPr/>
        </p:nvPicPr>
        <p:blipFill>
          <a:blip r:embed="rId3"/>
          <a:stretch/>
        </p:blipFill>
        <p:spPr>
          <a:xfrm>
            <a:off x="455760" y="1370160"/>
            <a:ext cx="326376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 : Discussion Starters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Discussion starter topic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1. How important is loyal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your country or do your friends consider “loyalty” something to value? When can “loyalty” sometimes caus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should people do when loyalty to their country and loyalty to their friend comes into confli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e there limits to what people should do in defense of the 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Discussion Start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Discussion starter topic 2: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2. What will a person do for the sake of political ide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ssassinations of political figures are common in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political figures do you know of who have been assassin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effect did these assassinations have on the general public, a political party, or a cause at the time of the assass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The Tragedy of Julius Caesar</a:t>
            </a:r>
            <a:br>
              <a:rPr sz="32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mages provided by Jupiter Images and Shutter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The Tragedy of Julius Caesar</a:t>
            </a:r>
            <a:br>
              <a:rPr sz="32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Z:\Production\Melissa\HTML_Project\Incoming\NovelNotes_Images_for_Lason\ceasar\shutterstock_2533080.jpg"/>
          <p:cNvPicPr/>
          <p:nvPr/>
        </p:nvPicPr>
        <p:blipFill>
          <a:blip r:embed="rId2"/>
          <a:stretch/>
        </p:blipFill>
        <p:spPr>
          <a:xfrm>
            <a:off x="2057400" y="1523880"/>
            <a:ext cx="54100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>
            <a:hlinkClick r:id="rId2" action="ppaction://hlinksldjump"/>
          </p:cNvPr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4">
            <a:hlinkClick r:id="rId3" action="ppaction://hlinksldjump"/>
          </p:cNvPr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48"/>
          <p:cNvSpPr/>
          <p:nvPr/>
        </p:nvSpPr>
        <p:spPr>
          <a:xfrm>
            <a:off x="76212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setting of this play is ancient Rom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49"/>
          <p:cNvSpPr/>
          <p:nvPr/>
        </p:nvSpPr>
        <p:spPr>
          <a:xfrm>
            <a:off x="76212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hakespeare creates a world full of political intrigue, magical occurrences, and military conqu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51" descr=""/>
          <p:cNvPicPr/>
          <p:nvPr/>
        </p:nvPicPr>
        <p:blipFill>
          <a:blip r:embed="rId4"/>
          <a:stretch/>
        </p:blipFill>
        <p:spPr>
          <a:xfrm>
            <a:off x="7238880" y="14479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:\Production\Melissa\HTML Project\Incoming\NovelNotes_Images_for_Lason\ceasar\shutterstock_3276704.jpg"/>
          <p:cNvPicPr/>
          <p:nvPr/>
        </p:nvPicPr>
        <p:blipFill>
          <a:blip r:embed="rId5"/>
          <a:stretch/>
        </p:blipFill>
        <p:spPr>
          <a:xfrm>
            <a:off x="2585880" y="1827360"/>
            <a:ext cx="3894120" cy="25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3" descr="Z:\Production\Melissa\HTML_Project\Incoming\NovelNotes_Images_for_Lason\ceasar\shutterstock_2031901.jpg"/>
          <p:cNvPicPr/>
          <p:nvPr/>
        </p:nvPicPr>
        <p:blipFill>
          <a:blip r:embed="rId2"/>
          <a:stretch/>
        </p:blipFill>
        <p:spPr>
          <a:xfrm>
            <a:off x="6197760" y="1981080"/>
            <a:ext cx="2489040" cy="3810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>
            <a:hlinkClick r:id="rId3" action="ppaction://hlinksldjump"/>
          </p:cNvPr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4">
            <a:hlinkClick r:id="rId4" action="ppaction://hlinksldjump"/>
          </p:cNvPr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609480" y="144792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aesar, the most powerful man in Rome, has recently returned to the city after months of fighting abro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20" descr="Z:\Production\Melissa\HTML Project\Incoming\NovelNotes_Images_for_Lason\ceasar\5266071-2400x1400.jpg"/>
          <p:cNvPicPr/>
          <p:nvPr/>
        </p:nvPicPr>
        <p:blipFill>
          <a:blip r:embed="rId5"/>
          <a:stretch/>
        </p:blipFill>
        <p:spPr>
          <a:xfrm>
            <a:off x="4419720" y="1447920"/>
            <a:ext cx="190980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0"/>
          <p:cNvSpPr/>
          <p:nvPr/>
        </p:nvSpPr>
        <p:spPr>
          <a:xfrm>
            <a:off x="457200" y="1066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aesar was fighting Pompey, another powerful Roman, and his s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533520" y="25146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mpey, as well as others in the Roman senate, was disturbed by Caesar’s growing amb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43" descr="Z:\Production\Melissa\HTML Project\Incoming\NovelNotes_Images_for_Lason\ceasar\5076228-1602x2400.jpg"/>
          <p:cNvPicPr/>
          <p:nvPr/>
        </p:nvPicPr>
        <p:blipFill>
          <a:blip r:embed="rId3"/>
          <a:stretch/>
        </p:blipFill>
        <p:spPr>
          <a:xfrm>
            <a:off x="4724280" y="2440080"/>
            <a:ext cx="37483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9" descr="Z:\Production\Melissa\HTML Project\Incoming\NovelNotes_Images_for_Lason\ceasar\shutterstock_1629145.jpg"/>
          <p:cNvPicPr/>
          <p:nvPr/>
        </p:nvPicPr>
        <p:blipFill>
          <a:blip r:embed="rId2"/>
          <a:stretch/>
        </p:blipFill>
        <p:spPr>
          <a:xfrm>
            <a:off x="1370160" y="3500280"/>
            <a:ext cx="3483000" cy="2320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60948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ir fears seem to be valid when Caesar refuses to enter Rome as an ordinary citizen after the w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609480" y="2514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stead, he marches his army on Rome and takes over the govern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30" descr="Z:\Production\Melissa\HTML Project\Incoming\NovelNotes_Images_for_Lason\ceasar\shutterstock_1985514.jpg"/>
          <p:cNvPicPr/>
          <p:nvPr/>
        </p:nvPicPr>
        <p:blipFill>
          <a:blip r:embed="rId3"/>
          <a:stretch/>
        </p:blipFill>
        <p:spPr>
          <a:xfrm>
            <a:off x="4414680" y="3354480"/>
            <a:ext cx="3227400" cy="24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19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1"/>
          <p:cNvSpPr/>
          <p:nvPr/>
        </p:nvSpPr>
        <p:spPr>
          <a:xfrm>
            <a:off x="609480" y="1447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ut the people don’t mind—in fact, they love h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685800" y="3048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aesar is made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dictator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ruler—a position that was sometimes granted for a ten-year term—for the rest of his life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24" descr="Z:\Production\Melissa\HTML Project\Incoming\NovelNotes_Images_for_Lason\ceasar\shutterstock_566270.jpg"/>
          <p:cNvPicPr/>
          <p:nvPr/>
        </p:nvPicPr>
        <p:blipFill>
          <a:blip r:embed="rId3"/>
          <a:stretch/>
        </p:blipFill>
        <p:spPr>
          <a:xfrm>
            <a:off x="4879800" y="1525680"/>
            <a:ext cx="3035520" cy="40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533520" y="20574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ny senators, however, resent Caesar for having so much po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22" descr="Z:\Production\Melissa\HTML Project\Incoming\NovelNotes_Images_for_Lason\ceasar\shutterstock_2402541.jpg"/>
          <p:cNvPicPr/>
          <p:nvPr/>
        </p:nvPicPr>
        <p:blipFill>
          <a:blip r:embed="rId2"/>
          <a:stretch/>
        </p:blipFill>
        <p:spPr>
          <a:xfrm>
            <a:off x="4643280" y="1370160"/>
            <a:ext cx="3419640" cy="4416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6:00:44Z</dcterms:created>
  <dc:creator>Jody Frank; adapted by Jana Andrews</dc:creator>
  <dc:description/>
  <cp:keywords/>
  <dc:language>en-US</dc:language>
  <cp:lastModifiedBy>ScOrPiOnE</cp:lastModifiedBy>
  <dcterms:modified xsi:type="dcterms:W3CDTF">2011-10-27T00:01:43Z</dcterms:modified>
  <cp:revision>701</cp:revision>
  <dc:subject/>
  <dc:title>PowerPoint Presentation  -  Julius Caesar</dc:title>
</cp:coreProperties>
</file>